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647-7B9D-47BF-B992-EB0BCD92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4B5-D2FE-4E7C-8520-F59AD9C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34E-F111-4707-8261-5EF5EDC8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791-D3EB-416E-BB0F-55E7153B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FD9-32F9-4E3C-9950-4752867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607-2054-4F05-8B6D-CF79226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70F-3630-4B67-AA36-AB66862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E66-C37B-4E46-B5B6-8B089D37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CED-41AD-473C-9B00-F3DDDD2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86C-1574-4FCA-8814-2673C9C8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973-2386-412F-BAEE-D7CB909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AE9-4E2C-4239-9BC8-7A2E3E9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6D7-475C-4B00-BCD8-9D8A3B6E5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covitmica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080" y="2286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838080"/>
            <a:ext cx="44766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erent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mic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H,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logo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ch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nnwal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pido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covitemica2" descr=""/>
          <p:cNvPicPr/>
          <p:nvPr/>
        </p:nvPicPr>
        <p:blipFill>
          <a:blip r:embed="rId2"/>
          <a:stretch/>
        </p:blipFill>
        <p:spPr>
          <a:xfrm>
            <a:off x="457200" y="3932280"/>
            <a:ext cx="449568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276720"/>
            <a:ext cx="359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provides cleanest and most defect free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muscovite is of the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uscovite V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8280" y="1442880"/>
            <a:ext cx="7867440" cy="397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38160" y="457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of muscovite 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6095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: Daniel J. M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ller, Journal of Structural Biology 119, 172-188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87480" y="803160"/>
            <a:ext cx="258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: Si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: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83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re twin variety from Brazil forms yellow five pointed stars and is called "Star Muscovite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p green variety is called fuchsite and is colored by chromium inpur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eat insulator (oven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22:38Z</dcterms:created>
  <dc:creator>Dionne</dc:creator>
  <dc:description/>
  <dc:language>en-US</dc:language>
  <cp:lastModifiedBy>Dionne</cp:lastModifiedBy>
  <dcterms:modified xsi:type="dcterms:W3CDTF">2003-12-10T16:42:31Z</dcterms:modified>
  <cp:revision>9</cp:revision>
  <dc:subject/>
  <dc:title>PowerPoint Presentation</dc:title>
</cp:coreProperties>
</file>